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8DD-C350-427D-AE9B-8E20E86E3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81D5-E6E5-49DE-8560-C02925F67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F048-39B3-4454-9225-D2FC435F7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7456-F10E-4087-9319-E23FD0278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6974-A37E-4C41-9923-3374EA9B6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25F-A44B-4650-BF96-9B5DCFD25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25EB-0487-4552-B056-EE5655FB0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F65-D27C-4BA9-865A-E1BCE7B74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27C5-77B3-4630-BE3D-7FC5B8AE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8FB6-52D5-496F-B6C7-06419F065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9F69-8938-415B-8C3B-9ADD4DEB4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2CF3-517A-4CFC-BBE4-A585E3CCF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9BD5-C61E-4AC2-A008-B3557DB40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E57-ED7C-453D-9C84-357B4ABE9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9E06-E999-4BF6-B04D-C54D6EF3F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375F-49AF-4885-9BF0-6E58BE4D0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9D66-A6D3-4B41-8BBF-2CBBD5E3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7A9F-8E9F-4FB3-81BE-0433E4959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EC7A-0651-42F0-8D1C-01B23A3B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D148-FD50-4208-A1F2-D07FDA887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0F22-349C-4814-8AB2-DEF538A1E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D7D3-AFCE-4E8D-80AF-83217EEFE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AFDF-01F9-44AB-8C7F-B834800BA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1E8-550C-4B91-93DF-A4BD744A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144-0E4C-476E-A08E-264A26D1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C69-EC9B-4392-A142-C2544A50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4FC-63DE-4C06-AAA1-FCFFC150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6473-0F86-4217-9503-BB247240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AEF0-424A-470B-9F20-A7C10FA1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AC76-5465-48BB-B8D3-DBD4CBEB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B2ED-A081-4980-B2B5-2B3FF22C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1596-12ED-4BD0-B3DD-FBAFA80C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365C-93E1-44E9-8F2F-F906E01B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D354-DE24-4D76-8351-619D3A5D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355-9E3E-43C6-A64C-8B7424AB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2B5-3EB0-478D-B15D-DFAC506C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AAC0-46A8-45D4-9D9A-C4345EF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3F5C-D577-4774-A72B-C584CD5A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A0E1-2CB4-425A-9E99-5B51705F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0A63-DEDD-4CCB-BEBB-269DB5E3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8A3E-AAED-4AAF-9BC1-92B6EBBB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FCC7-89A0-4A65-9255-1DCBD513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4424-92F1-4291-8B51-5035A62A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AFFB8-FA3E-4511-BE19-B4E47FD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1A5D-2F04-4F18-8879-1CA335EB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D91-00B8-455D-A9CF-C8DABDB5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F5731-F54B-44B9-8F76-66DF04D8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503E-89BF-49BD-B356-59F176E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1CF16-C76E-4AB0-9538-4E3BEE1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74F3-53B2-42CA-94D2-AB5FB521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74FD-9F15-405B-824D-D9DC7EE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461D5-F566-417C-830F-570DE125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CE67-CAAE-401E-BD10-11E0D27D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F182C-F8FB-4E7B-A7E3-C284524E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80EEE-2497-4A7C-8167-FD250121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4C441-F054-48F1-A8D7-F6395636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A4E-5FEE-483D-8841-67086634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0F11C-4926-4825-B55F-DF6EBF07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91368-328F-40FD-B0B6-8FDBD171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E98C2-92AC-4C6C-81B5-783D3962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3FF0C-2049-47BE-BDD1-B2A5FD6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C469D-7BC5-49F8-BEDF-F7C68381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8C876-C9ED-42FC-AE41-7E915ED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B7B3C-0451-4D6C-BA73-FFD62592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DD130-D436-4FCB-8AA2-F1175973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AC66-CDCD-4D98-B813-A1FB2193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B00-F356-47CE-B467-1303F60D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F77-5982-4B2E-9436-1D58EEFC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D6A-AB1A-4215-AB57-51494D5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50E-1164-4B5F-B766-526FAC12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CFB-15D2-490C-8679-F5FDE01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2FA2-F49C-4395-B042-02733E77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eff58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ef441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12BC-F137-4C2E-A9CD-7D93615515F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93AD-D563-43AC-AFBC-52070978A0DA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4e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8f4e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4e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F188-8DBD-4F66-8D65-B7D1A7AF8BCA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pritchettcartoons.com/gif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b"/>
            </a:gs>
            <a:gs pos="5000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e82822"/>
                </a:solidFill>
                <a:latin typeface="Copperplate Gothic Bold"/>
              </a:rPr>
              <a:t>The Presidency on Tria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2" descr="PresSealFlag"/>
          <p:cNvPicPr/>
          <p:nvPr/>
        </p:nvPicPr>
        <p:blipFill>
          <a:blip r:embed="rId1"/>
          <a:stretch/>
        </p:blipFill>
        <p:spPr>
          <a:xfrm>
            <a:off x="2438280" y="1828800"/>
            <a:ext cx="4114800" cy="27939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5"/>
          <p:cNvSpPr/>
          <p:nvPr/>
        </p:nvSpPr>
        <p:spPr>
          <a:xfrm>
            <a:off x="762120" y="48006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e910b"/>
                </a:solidFill>
                <a:latin typeface="Georgia"/>
              </a:rPr>
              <a:t>Assessing the Limits of Presidential Power</a:t>
            </a: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Limits on Presidential Power:  Informal Ch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scrap"/>
          <p:cNvPicPr/>
          <p:nvPr/>
        </p:nvPicPr>
        <p:blipFill>
          <a:blip r:embed="rId1"/>
          <a:stretch/>
        </p:blipFill>
        <p:spPr>
          <a:xfrm>
            <a:off x="1447920" y="2209680"/>
            <a:ext cx="6248160" cy="41655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2"/>
          <p:cNvSpPr/>
          <p:nvPr/>
        </p:nvSpPr>
        <p:spPr>
          <a:xfrm>
            <a:off x="4800600" y="3429000"/>
            <a:ext cx="411480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304920" y="1828800"/>
            <a:ext cx="403848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Tahoma"/>
              </a:rPr>
              <a:t>Interest Groups &amp; NGO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80880" y="4800600"/>
            <a:ext cx="38862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ational Organization of Women, Cindy Sheehan, and others protest the war in Iraq, April, 2006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724280" y="2286000"/>
            <a:ext cx="38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ational Right to Life Committee and other pro-life interest groups spoke out against President Clinton’s veto of the ban on partial birth abortion, 1996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08" name="Picture 8" descr="scrap"/>
          <p:cNvPicPr/>
          <p:nvPr/>
        </p:nvPicPr>
        <p:blipFill>
          <a:blip r:embed="rId1"/>
          <a:stretch/>
        </p:blipFill>
        <p:spPr>
          <a:xfrm>
            <a:off x="4724280" y="3276720"/>
            <a:ext cx="3962520" cy="270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9" name="Picture 9" descr="scrap"/>
          <p:cNvPicPr/>
          <p:nvPr/>
        </p:nvPicPr>
        <p:blipFill>
          <a:blip r:embed="rId2"/>
          <a:stretch/>
        </p:blipFill>
        <p:spPr>
          <a:xfrm>
            <a:off x="228600" y="2057400"/>
            <a:ext cx="3886200" cy="26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6"/>
          <p:cNvSpPr/>
          <p:nvPr/>
        </p:nvSpPr>
        <p:spPr>
          <a:xfrm>
            <a:off x="1143000" y="5334120"/>
            <a:ext cx="1371600" cy="1295280"/>
          </a:xfrm>
          <a:prstGeom prst="rect">
            <a:avLst/>
          </a:prstGeom>
          <a:solidFill>
            <a:srgbClr val="ccb401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4114800" y="4191120"/>
            <a:ext cx="3276720" cy="2133360"/>
          </a:xfrm>
          <a:prstGeom prst="rect">
            <a:avLst/>
          </a:prstGeom>
          <a:solidFill>
            <a:srgbClr val="ccb401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800600" y="1600200"/>
            <a:ext cx="2133720" cy="1905120"/>
          </a:xfrm>
          <a:prstGeom prst="rect">
            <a:avLst/>
          </a:prstGeom>
          <a:solidFill>
            <a:srgbClr val="ccb401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04920" y="1447920"/>
            <a:ext cx="3200400" cy="2286000"/>
          </a:xfrm>
          <a:prstGeom prst="rect">
            <a:avLst/>
          </a:prstGeom>
          <a:solidFill>
            <a:srgbClr val="ccb401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b400"/>
                </a:solidFill>
                <a:latin typeface="Baskerville Semibold"/>
                <a:ea typeface="ＭＳ Ｐゴシック"/>
              </a:rPr>
              <a:t>Congressional Investigations</a:t>
            </a:r>
            <a:endParaRPr b="0" lang="en-US" sz="4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15" name="Picture 5" descr="scrap"/>
          <p:cNvPicPr/>
          <p:nvPr/>
        </p:nvPicPr>
        <p:blipFill>
          <a:blip r:embed="rId1"/>
          <a:stretch/>
        </p:blipFill>
        <p:spPr>
          <a:xfrm>
            <a:off x="533520" y="1676520"/>
            <a:ext cx="3047760" cy="2209680"/>
          </a:xfrm>
          <a:prstGeom prst="rect">
            <a:avLst/>
          </a:prstGeom>
          <a:ln w="38160">
            <a:solidFill>
              <a:srgbClr val="8c9ea0"/>
            </a:solidFill>
            <a:miter/>
          </a:ln>
        </p:spPr>
      </p:pic>
      <p:sp>
        <p:nvSpPr>
          <p:cNvPr id="216" name="Text Box 6"/>
          <p:cNvSpPr/>
          <p:nvPr/>
        </p:nvSpPr>
        <p:spPr>
          <a:xfrm>
            <a:off x="228600" y="3962520"/>
            <a:ext cx="3657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Oliver North testifies before Congress at the Iran-Contra hearings during the Reagan administration (1987)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17" name="Picture 7" descr="scrap"/>
          <p:cNvPicPr/>
          <p:nvPr/>
        </p:nvPicPr>
        <p:blipFill>
          <a:blip r:embed="rId2"/>
          <a:stretch/>
        </p:blipFill>
        <p:spPr>
          <a:xfrm>
            <a:off x="4648320" y="1828800"/>
            <a:ext cx="2057400" cy="1789200"/>
          </a:xfrm>
          <a:prstGeom prst="rect">
            <a:avLst/>
          </a:prstGeom>
          <a:ln w="38160">
            <a:solidFill>
              <a:srgbClr val="8c9ea0"/>
            </a:solidFill>
            <a:miter/>
          </a:ln>
        </p:spPr>
      </p:pic>
      <p:sp>
        <p:nvSpPr>
          <p:cNvPr id="218" name="Rectangle 8"/>
          <p:cNvSpPr/>
          <p:nvPr/>
        </p:nvSpPr>
        <p:spPr>
          <a:xfrm>
            <a:off x="6934320" y="1600200"/>
            <a:ext cx="1752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Senate Banking Committee begins its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investigative hearings on the Whitewater 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scandal during the Clinton administration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(1994)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19" name="Picture 9" descr="scrap"/>
          <p:cNvPicPr/>
          <p:nvPr/>
        </p:nvPicPr>
        <p:blipFill>
          <a:blip r:embed="rId3"/>
          <a:stretch/>
        </p:blipFill>
        <p:spPr>
          <a:xfrm>
            <a:off x="3962520" y="4114800"/>
            <a:ext cx="3200400" cy="2030400"/>
          </a:xfrm>
          <a:prstGeom prst="rect">
            <a:avLst/>
          </a:prstGeom>
          <a:ln w="38160">
            <a:solidFill>
              <a:srgbClr val="8c9ea0"/>
            </a:solidFill>
            <a:miter/>
          </a:ln>
        </p:spPr>
      </p:pic>
      <p:sp>
        <p:nvSpPr>
          <p:cNvPr id="220" name="Rectangle 10"/>
          <p:cNvSpPr/>
          <p:nvPr/>
        </p:nvSpPr>
        <p:spPr>
          <a:xfrm>
            <a:off x="7391520" y="4572000"/>
            <a:ext cx="160020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Former FEMA director Michael Brown testifies before the House Select Committee on Hurricane Katrina, Sept., 2002</a:t>
            </a:r>
            <a:endParaRPr b="0" lang="en-US" sz="13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21" name="Picture 15" descr="MCj03080910000[1]"/>
          <p:cNvPicPr/>
          <p:nvPr/>
        </p:nvPicPr>
        <p:blipFill>
          <a:blip r:embed="rId4"/>
          <a:stretch/>
        </p:blipFill>
        <p:spPr>
          <a:xfrm>
            <a:off x="1295280" y="5562720"/>
            <a:ext cx="990720" cy="83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43240" y="68544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itle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"Bill Clinton's Christmas present from the U.S. House.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untitled"/>
          <p:cNvPicPr/>
          <p:nvPr/>
        </p:nvPicPr>
        <p:blipFill>
          <a:blip r:embed="rId1"/>
          <a:stretch/>
        </p:blipFill>
        <p:spPr>
          <a:xfrm>
            <a:off x="380880" y="457200"/>
            <a:ext cx="5483520" cy="59436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6019920" y="5105520"/>
            <a:ext cx="26668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rtist: John Pritchett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e:  unknown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1" lang="en-US" sz="1400" spc="-1" strike="noStrike" u="sng">
                <a:solidFill>
                  <a:srgbClr val="66ccff"/>
                </a:solidFill>
                <a:uFillTx/>
                <a:latin typeface="Times New Roman"/>
                <a:hlinkClick r:id="rId2"/>
              </a:rPr>
              <a:t>http://www.pritchettcartoons.com/gift.htm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2"/>
          <p:cNvSpPr/>
          <p:nvPr/>
        </p:nvSpPr>
        <p:spPr>
          <a:xfrm>
            <a:off x="5029200" y="2057400"/>
            <a:ext cx="3048120" cy="2514600"/>
          </a:xfrm>
          <a:prstGeom prst="rect">
            <a:avLst/>
          </a:prstGeom>
          <a:solidFill>
            <a:srgbClr val="e10000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5105520" y="1981080"/>
            <a:ext cx="3047760" cy="2438640"/>
          </a:xfrm>
          <a:prstGeom prst="rect">
            <a:avLst/>
          </a:prstGeom>
          <a:solidFill>
            <a:srgbClr val="1a05b5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838080" y="2057400"/>
            <a:ext cx="3276720" cy="2514600"/>
          </a:xfrm>
          <a:prstGeom prst="rect">
            <a:avLst/>
          </a:prstGeom>
          <a:solidFill>
            <a:srgbClr val="1a05b5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762120" y="1981080"/>
            <a:ext cx="3276360" cy="2438640"/>
          </a:xfrm>
          <a:prstGeom prst="rect">
            <a:avLst/>
          </a:prstGeom>
          <a:solidFill>
            <a:srgbClr val="e10000"/>
          </a:solidFill>
          <a:ln w="9360">
            <a:solidFill>
              <a:srgbClr val="f8f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Partisan</a:t>
            </a:r>
            <a:r>
              <a:rPr b="1" lang="en-US" sz="4400" spc="-1" strike="noStrike">
                <a:solidFill>
                  <a:srgbClr val="ba04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1a05b5"/>
                </a:solidFill>
                <a:latin typeface="Verdana"/>
              </a:rPr>
              <a:t>Politics</a:t>
            </a:r>
            <a:endParaRPr b="0" lang="en-US" sz="4400" spc="-1" strike="noStrike">
              <a:solidFill>
                <a:srgbClr val="f8f4ec"/>
              </a:solidFill>
              <a:latin typeface="Verdan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38080" y="4572000"/>
            <a:ext cx="342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Howard Dean, Chairman of the Democratic National Committee and vigorous critic of the Bush administration, May, 2005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4952880" y="4572000"/>
            <a:ext cx="3416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Speaker of the House Newt Gingrich (R) battles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President Bill Clinton (D) over the national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budget resulting in the shutdown of the federal    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4ec"/>
                </a:solidFill>
                <a:latin typeface="Times New Roman"/>
                <a:ea typeface="ＭＳ Ｐゴシック"/>
              </a:rPr>
              <a:t>government in 1995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32" name="Picture 7" descr="scrap"/>
          <p:cNvPicPr/>
          <p:nvPr/>
        </p:nvPicPr>
        <p:blipFill>
          <a:blip r:embed="rId1"/>
          <a:stretch/>
        </p:blipFill>
        <p:spPr>
          <a:xfrm>
            <a:off x="5105520" y="2057400"/>
            <a:ext cx="2971800" cy="2374920"/>
          </a:xfrm>
          <a:prstGeom prst="rect">
            <a:avLst/>
          </a:prstGeom>
          <a:ln w="38160">
            <a:solidFill>
              <a:srgbClr val="f8f4ec"/>
            </a:solidFill>
            <a:miter/>
          </a:ln>
        </p:spPr>
      </p:pic>
      <p:pic>
        <p:nvPicPr>
          <p:cNvPr id="233" name="Picture 8" descr="scrap"/>
          <p:cNvPicPr/>
          <p:nvPr/>
        </p:nvPicPr>
        <p:blipFill>
          <a:blip r:embed="rId2"/>
          <a:stretch/>
        </p:blipFill>
        <p:spPr>
          <a:xfrm>
            <a:off x="838080" y="2057400"/>
            <a:ext cx="3200400" cy="2400480"/>
          </a:xfrm>
          <a:prstGeom prst="rect">
            <a:avLst/>
          </a:prstGeom>
          <a:ln w="38160">
            <a:solidFill>
              <a:srgbClr val="f8f4ec"/>
            </a:solidFill>
            <a:miter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7"/>
          <p:cNvSpPr/>
          <p:nvPr/>
        </p:nvSpPr>
        <p:spPr>
          <a:xfrm>
            <a:off x="6019920" y="4343400"/>
            <a:ext cx="2819160" cy="22096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6019920" y="1600200"/>
            <a:ext cx="2666880" cy="24382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733920" y="2438280"/>
            <a:ext cx="1981080" cy="25909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457200" y="4114800"/>
            <a:ext cx="2895480" cy="228600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304920" y="1600200"/>
            <a:ext cx="3124080" cy="21337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66"/>
                </a:solidFill>
                <a:latin typeface="Courier New"/>
              </a:rPr>
              <a:t>The Med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Picture 7" descr="scrap"/>
          <p:cNvPicPr/>
          <p:nvPr/>
        </p:nvPicPr>
        <p:blipFill>
          <a:blip r:embed="rId1"/>
          <a:stretch/>
        </p:blipFill>
        <p:spPr>
          <a:xfrm>
            <a:off x="533520" y="4191120"/>
            <a:ext cx="2743200" cy="2131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1" name="Picture 8" descr="scrap"/>
          <p:cNvPicPr/>
          <p:nvPr/>
        </p:nvPicPr>
        <p:blipFill>
          <a:blip r:embed="rId2"/>
          <a:stretch/>
        </p:blipFill>
        <p:spPr>
          <a:xfrm>
            <a:off x="6095880" y="4419720"/>
            <a:ext cx="266724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2" name="Picture 9" descr="scrap"/>
          <p:cNvPicPr/>
          <p:nvPr/>
        </p:nvPicPr>
        <p:blipFill>
          <a:blip r:embed="rId3"/>
          <a:stretch/>
        </p:blipFill>
        <p:spPr>
          <a:xfrm>
            <a:off x="380880" y="1676520"/>
            <a:ext cx="2971800" cy="199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3" name="Picture 10" descr="scrap"/>
          <p:cNvPicPr/>
          <p:nvPr/>
        </p:nvPicPr>
        <p:blipFill>
          <a:blip r:embed="rId4"/>
          <a:stretch/>
        </p:blipFill>
        <p:spPr>
          <a:xfrm>
            <a:off x="3809880" y="2514600"/>
            <a:ext cx="181296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4" name="Picture 11" descr="scrap"/>
          <p:cNvPicPr/>
          <p:nvPr/>
        </p:nvPicPr>
        <p:blipFill>
          <a:blip r:embed="rId5"/>
          <a:stretch/>
        </p:blipFill>
        <p:spPr>
          <a:xfrm>
            <a:off x="6095880" y="1676520"/>
            <a:ext cx="251460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5" name="Picture 18" descr="MCj02343480000[1]"/>
          <p:cNvPicPr/>
          <p:nvPr/>
        </p:nvPicPr>
        <p:blipFill>
          <a:blip r:embed="rId6"/>
          <a:stretch/>
        </p:blipFill>
        <p:spPr>
          <a:xfrm>
            <a:off x="0" y="0"/>
            <a:ext cx="1143000" cy="1012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9" descr="MCj03962400000[1]"/>
          <p:cNvPicPr/>
          <p:nvPr/>
        </p:nvPicPr>
        <p:blipFill>
          <a:blip r:embed="rId7"/>
          <a:stretch/>
        </p:blipFill>
        <p:spPr>
          <a:xfrm>
            <a:off x="8332920" y="0"/>
            <a:ext cx="811080" cy="838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0" descr="j0285750"/>
          <p:cNvPicPr/>
          <p:nvPr/>
        </p:nvPicPr>
        <p:blipFill>
          <a:blip r:embed="rId8"/>
          <a:stretch/>
        </p:blipFill>
        <p:spPr>
          <a:xfrm>
            <a:off x="4038480" y="5889600"/>
            <a:ext cx="1295640" cy="96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Kristen ITC"/>
              </a:rPr>
              <a:t>Public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LBJ"/>
          <p:cNvPicPr/>
          <p:nvPr/>
        </p:nvPicPr>
        <p:blipFill>
          <a:blip r:embed="rId1"/>
          <a:stretch/>
        </p:blipFill>
        <p:spPr>
          <a:xfrm>
            <a:off x="914400" y="2057400"/>
            <a:ext cx="3048120" cy="2300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0" name="Text Box 7"/>
          <p:cNvSpPr/>
          <p:nvPr/>
        </p:nvSpPr>
        <p:spPr>
          <a:xfrm>
            <a:off x="838080" y="441972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In a televised address in March, 1968, President Johnson announced he would not seek the Democratic nomination for president due to sagging public support for his administration and the war in Vietnam.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51" name="Picture 8" descr="scrap"/>
          <p:cNvPicPr/>
          <p:nvPr/>
        </p:nvPicPr>
        <p:blipFill>
          <a:blip r:embed="rId2"/>
          <a:stretch/>
        </p:blipFill>
        <p:spPr>
          <a:xfrm>
            <a:off x="4876920" y="2057400"/>
            <a:ext cx="3124080" cy="2386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52" name="Rectangle 10"/>
          <p:cNvSpPr/>
          <p:nvPr/>
        </p:nvSpPr>
        <p:spPr>
          <a:xfrm>
            <a:off x="4651560" y="4495680"/>
            <a:ext cx="366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hough he enjoyed record public support during the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ersian Gulf War, President George H. W. Bush saw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is numbers dip dramatically in the polls and he lost 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is re-election bid to democrat Bill Clinton in 1992.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3" name="AutoShape 13"/>
          <p:cNvSpPr/>
          <p:nvPr/>
        </p:nvSpPr>
        <p:spPr>
          <a:xfrm>
            <a:off x="838080" y="457200"/>
            <a:ext cx="762120" cy="609480"/>
          </a:xfrm>
          <a:prstGeom prst="wedgeRectCallout">
            <a:avLst>
              <a:gd name="adj1" fmla="val -40625"/>
              <a:gd name="adj2" fmla="val 1598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7467480" y="457200"/>
            <a:ext cx="762120" cy="609480"/>
          </a:xfrm>
          <a:prstGeom prst="wedgeRectCallout">
            <a:avLst>
              <a:gd name="adj1" fmla="val -42500"/>
              <a:gd name="adj2" fmla="val 1424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5" name="AutoShape 17"/>
          <p:cNvSpPr/>
          <p:nvPr/>
        </p:nvSpPr>
        <p:spPr>
          <a:xfrm>
            <a:off x="2743200" y="5638680"/>
            <a:ext cx="914400" cy="762120"/>
          </a:xfrm>
          <a:prstGeom prst="wedgeEllipseCallout">
            <a:avLst>
              <a:gd name="adj1" fmla="val -78472"/>
              <a:gd name="adj2" fmla="val -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5334120" y="5715000"/>
            <a:ext cx="914400" cy="609480"/>
          </a:xfrm>
          <a:prstGeom prst="wedgeRoundRectCallout">
            <a:avLst>
              <a:gd name="adj1" fmla="val 97745"/>
              <a:gd name="adj2" fmla="val -450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0254"/>
            </a:gs>
            <a:gs pos="50000">
              <a:srgbClr val="1a05b5"/>
            </a:gs>
            <a:gs pos="100000">
              <a:srgbClr val="0c02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10480" cy="2057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66"/>
                </a:solidFill>
                <a:latin typeface="Baskerville Semibold"/>
              </a:rPr>
              <a:t>"Just so you know, we're ashamed     the President of the United States        is from Texas."</a:t>
            </a:r>
            <a:br>
              <a:rPr sz="3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~Natalie Maines, lead singer of the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Dixie Chick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at a concert in London (March 10, 2003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Picture 4" descr="scrap"/>
          <p:cNvPicPr/>
          <p:nvPr/>
        </p:nvPicPr>
        <p:blipFill>
          <a:blip r:embed="rId1"/>
          <a:stretch/>
        </p:blipFill>
        <p:spPr>
          <a:xfrm>
            <a:off x="685800" y="3200400"/>
            <a:ext cx="3581280" cy="2684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scrap"/>
          <p:cNvPicPr/>
          <p:nvPr/>
        </p:nvPicPr>
        <p:blipFill>
          <a:blip r:embed="rId2"/>
          <a:stretch/>
        </p:blipFill>
        <p:spPr>
          <a:xfrm>
            <a:off x="4876920" y="3200400"/>
            <a:ext cx="3886200" cy="2644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914400" y="58672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The </a:t>
            </a:r>
            <a:r>
              <a:rPr b="1" i="1" lang="en-US" sz="14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Dixie Chicks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 in concert, 2003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876920" y="586728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  <a:ea typeface="ＭＳ Ｐゴシック"/>
              </a:rPr>
              <a:t>President Bush delivering the State of the Union Address, 2003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ccff66"/>
                </a:solidFill>
                <a:latin typeface="Rockwell Extra Bold"/>
              </a:rPr>
              <a:t>Not Ready to Make Nice</a:t>
            </a:r>
            <a:br>
              <a:rPr sz="2800"/>
            </a:br>
            <a:r>
              <a:rPr b="1" lang="en-US" sz="1400" spc="-1" strike="noStrike">
                <a:solidFill>
                  <a:srgbClr val="ccff66"/>
                </a:solidFill>
                <a:latin typeface="Rockwell Extra Bold"/>
              </a:rPr>
              <a:t>Recorded by the Dixie Chicks, 200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1148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give, sounds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get, I'm not sure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y say time heals everyth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t I'm still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through, with doub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's nothing left for me to figure o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ve paid a price, and I'll keep p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not ready to make n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not ready to back d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still mad as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I don't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o go round and round and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's too late to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probably wouldn't if I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use I'm mad as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n't bring myself to do what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You think I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114800" y="1066680"/>
            <a:ext cx="0" cy="556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533520"/>
            <a:ext cx="4190760" cy="56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know you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y can't you just get over 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 turned my whole world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I kind of lik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made my bed, and I sleep like a ba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th no regrets and I don't mind say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's a sad sad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at a mother will teach her 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380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at she ought to hate a perfect stra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how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n the words that I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nd somebody so over the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at they'd write me a 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aying that I better shut up and 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r my life will be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4267080" y="304920"/>
            <a:ext cx="0" cy="624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838080" y="251460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70c11"/>
                </a:solidFill>
                <a:latin typeface="Copperplate Gothic Bold"/>
              </a:rPr>
              <a:t>Formal Checks on     </a:t>
            </a:r>
            <a:endParaRPr b="0" lang="en-US" sz="4800" spc="-1" strike="noStrike">
              <a:solidFill>
                <a:srgbClr val="000000"/>
              </a:solidFill>
              <a:latin typeface="Bradley Hand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70c11"/>
                </a:solidFill>
                <a:latin typeface="Copperplate Gothic Bold"/>
              </a:rPr>
              <a:t>Presidential Power</a:t>
            </a:r>
            <a:endParaRPr b="0" lang="en-US" sz="48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5049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not read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ke ni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not ready to back dow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'm still mad as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d I don't h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o go round and round and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00240" y="990720"/>
            <a:ext cx="3505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t's too late to make it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 probably wouldn't if I c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use I'm mad as 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an't bring myself to do what i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You think I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Repe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343400" y="533520"/>
            <a:ext cx="0" cy="5943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1"/>
          <p:cNvSpPr/>
          <p:nvPr/>
        </p:nvSpPr>
        <p:spPr>
          <a:xfrm>
            <a:off x="1066680" y="3657600"/>
            <a:ext cx="69343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47560" y="838080"/>
            <a:ext cx="6172200" cy="178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give, sounds g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get, I'm not sure I cou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y say time heals everyth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ut I'm still wa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untitled"/>
          <p:cNvPicPr/>
          <p:nvPr/>
        </p:nvPicPr>
        <p:blipFill>
          <a:blip r:embed="rId1"/>
          <a:stretch/>
        </p:blipFill>
        <p:spPr>
          <a:xfrm>
            <a:off x="1143000" y="3733920"/>
            <a:ext cx="6781680" cy="2290680"/>
          </a:xfrm>
          <a:prstGeom prst="rect">
            <a:avLst/>
          </a:prstGeom>
          <a:ln w="0">
            <a:noFill/>
          </a:ln>
        </p:spPr>
      </p:pic>
      <p:sp>
        <p:nvSpPr>
          <p:cNvPr id="278" name="Line 8"/>
          <p:cNvSpPr/>
          <p:nvPr/>
        </p:nvSpPr>
        <p:spPr>
          <a:xfrm>
            <a:off x="990720" y="65530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143000" y="29718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5000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ccff66"/>
                </a:solidFill>
                <a:latin typeface="Rockwell Extra Bold"/>
              </a:rPr>
              <a:t>The Dixie Chicks &amp; George W. Bush</a:t>
            </a:r>
            <a:br>
              <a:rPr sz="3200"/>
            </a:br>
            <a:br>
              <a:rPr sz="2400"/>
            </a:br>
            <a:r>
              <a:rPr b="1" lang="en-US" sz="3200" spc="-1" strike="noStrike">
                <a:solidFill>
                  <a:srgbClr val="ffff99"/>
                </a:solidFill>
                <a:latin typeface="Baskerville Semibold"/>
              </a:rPr>
              <a:t>Questions for Discussion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 your opinion, did the Dixie Chicks have a right to criticize the president in a time of wa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o country music stations and fans have a right to boycott Dixie Chicks’ music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def441"/>
              </a:buClr>
              <a:buSzPct val="85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w does this song, as well as other actions taken by entertainers and the media, serve as a check on presidential power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Congressional Checks on the President</a:t>
            </a:r>
            <a:br>
              <a:rPr sz="3600"/>
            </a:br>
            <a:r>
              <a:rPr b="1" lang="en-US" sz="3200" spc="-1" strike="noStrike">
                <a:solidFill>
                  <a:srgbClr val="000066"/>
                </a:solidFill>
                <a:latin typeface="Copperplate Gothic Bold"/>
              </a:rPr>
              <a:t>(Article I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Make laws (ex: War Powers Resolu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Override presidential ve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Power to declar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Power of the purse (taxes and fu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Regulation of the land and nav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Congressional Checks (cont.)</a:t>
            </a:r>
            <a:endParaRPr b="0" lang="en-US" sz="3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391520" cy="1447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470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Impeachment Power (House)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1896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470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Impeachment Trial (Senate)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189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81" name="Picture 9" descr="untitled"/>
          <p:cNvPicPr/>
          <p:nvPr/>
        </p:nvPicPr>
        <p:blipFill>
          <a:blip r:embed="rId2"/>
          <a:stretch/>
        </p:blipFill>
        <p:spPr>
          <a:xfrm>
            <a:off x="2057400" y="2971800"/>
            <a:ext cx="5029200" cy="33606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82" name="Text Box 11"/>
          <p:cNvSpPr/>
          <p:nvPr/>
        </p:nvSpPr>
        <p:spPr>
          <a:xfrm>
            <a:off x="2590920" y="60199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  <a:ea typeface="MS Pゴシック"/>
              </a:rPr>
              <a:t>President Clinton’s impeachment trial, January, 1999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Limits on Presidential Power (Article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President elected indirectly by the people through the Electoral Colle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Selection of president (House) in case of no majority of electoral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President must deliver State of the Union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Baskerville Semibold"/>
              </a:rPr>
              <a:t>Senate approves treaties and ambassa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Limits on Presidential Power (Article II)</a:t>
            </a:r>
            <a:endParaRPr b="0" lang="en-US" sz="36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343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0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Senate approves department appointment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0c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Copperplate Gothic Light"/>
              </a:rPr>
              <a:t>“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Advice and consent</a:t>
            </a:r>
            <a:r>
              <a:rPr b="1" lang="en-US" sz="3200" spc="-1" strike="noStrike">
                <a:solidFill>
                  <a:srgbClr val="470c11"/>
                </a:solidFill>
                <a:latin typeface="Copperplate Gothic Light"/>
              </a:rPr>
              <a:t>”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of federal judge appointments (Senate)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pic>
        <p:nvPicPr>
          <p:cNvPr id="189" name="Picture 6" descr="scrap"/>
          <p:cNvPicPr/>
          <p:nvPr/>
        </p:nvPicPr>
        <p:blipFill>
          <a:blip r:embed="rId1"/>
          <a:stretch/>
        </p:blipFill>
        <p:spPr>
          <a:xfrm>
            <a:off x="5029200" y="3352680"/>
            <a:ext cx="3276720" cy="21337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0" name="Picture 7" descr="scrap"/>
          <p:cNvPicPr/>
          <p:nvPr/>
        </p:nvPicPr>
        <p:blipFill>
          <a:blip r:embed="rId2"/>
          <a:stretch/>
        </p:blipFill>
        <p:spPr>
          <a:xfrm>
            <a:off x="990720" y="3352680"/>
            <a:ext cx="3227400" cy="21542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191" name="Text Box 8"/>
          <p:cNvSpPr/>
          <p:nvPr/>
        </p:nvSpPr>
        <p:spPr>
          <a:xfrm>
            <a:off x="914400" y="556272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Secretary of State Condoleezza Rice testifies at her Senate Foreign Relations Committee confirmation hearing, January, 2005.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952880" y="556272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Nominee for Chief Justice, John Roberts is sworn in at his Senate Judiciary committee confirmation hearing, September, 2005.</a:t>
            </a:r>
            <a:endParaRPr b="0" lang="en-US" sz="1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457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66"/>
                </a:solidFill>
                <a:latin typeface="Georgia"/>
                <a:ea typeface="MS Pゴシック"/>
              </a:rPr>
              <a:t>Judicial Checks on the Presid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194" name="Picture 5" descr="scrap"/>
          <p:cNvPicPr/>
          <p:nvPr/>
        </p:nvPicPr>
        <p:blipFill>
          <a:blip r:embed="rId1"/>
          <a:stretch/>
        </p:blipFill>
        <p:spPr>
          <a:xfrm>
            <a:off x="685800" y="1828800"/>
            <a:ext cx="3505320" cy="3798720"/>
          </a:xfrm>
          <a:prstGeom prst="rect">
            <a:avLst/>
          </a:prstGeom>
          <a:ln w="57240">
            <a:solidFill>
              <a:srgbClr val="777777"/>
            </a:solidFill>
            <a:miter/>
          </a:ln>
        </p:spPr>
      </p:pic>
      <p:sp>
        <p:nvSpPr>
          <p:cNvPr id="195" name="Rectangle 6"/>
          <p:cNvSpPr/>
          <p:nvPr/>
        </p:nvSpPr>
        <p:spPr>
          <a:xfrm>
            <a:off x="4114800" y="1676520"/>
            <a:ext cx="472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Times New Roman"/>
                <a:ea typeface="MS Pゴシック"/>
              </a:rPr>
              <a:t>Judicial review (</a:t>
            </a:r>
            <a:r>
              <a:rPr b="1" i="1" lang="en-US" sz="3200" spc="-1" strike="noStrike">
                <a:solidFill>
                  <a:srgbClr val="470c11"/>
                </a:solidFill>
                <a:latin typeface="Times New Roman"/>
                <a:ea typeface="MS Pゴシック"/>
              </a:rPr>
              <a:t>Marbury v. Madison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  <a:ea typeface="MS Pゴシック"/>
              </a:rPr>
              <a:t>) Acts of the President Constitutional?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3a2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0c11"/>
                </a:solidFill>
                <a:latin typeface="Times New Roman"/>
                <a:ea typeface="MS Pゴシック"/>
              </a:rPr>
              <a:t>Chief Justice presides over presidential impeachment trial (Article I)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pperplate Gothic Bold"/>
              </a:rPr>
              <a:t>Constitutional Ame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0c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Choosing president &amp; vice-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    president on separate bal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0c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Presidential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0c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Presidential term limits (2 terms; 10 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     years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5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408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0c1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470c11"/>
                </a:solidFill>
                <a:latin typeface="Times New Roman"/>
              </a:rPr>
              <a:t> Presidential disability and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Title: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“The Madness of King George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7400" y="617220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rtist: Drew Sheneman,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The Newark Star Ledger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ate:  December, 2005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ource: </a:t>
            </a:r>
            <a:r>
              <a:rPr b="1" lang="en-US" sz="1400" spc="-1" strike="noStrike" u="sng">
                <a:solidFill>
                  <a:srgbClr val="66ccff"/>
                </a:solidFill>
                <a:uFillTx/>
                <a:latin typeface="Times New Roman"/>
              </a:rPr>
              <a:t>http://www.cagle.com/news/DomesticSpying/1.asp</a:t>
            </a:r>
            <a:endParaRPr b="0" lang="en-US" sz="14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200" name="Picture 5" descr="scrap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517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3:14:36Z</dcterms:created>
  <dc:creator>Nikki Lewis</dc:creator>
  <dc:description/>
  <dc:language>en-US</dc:language>
  <cp:lastModifiedBy>hberndt</cp:lastModifiedBy>
  <dcterms:modified xsi:type="dcterms:W3CDTF">2010-04-29T19:56:05Z</dcterms:modified>
  <cp:revision>143</cp:revision>
  <dc:subject/>
  <dc:title>Presidential Powers</dc:title>
</cp:coreProperties>
</file>